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F43E-A29D-46C3-82D0-C206B60F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5420-3303-4C67-B4D7-7550BB6E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4807-8480-45B9-99DB-178F07F89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6B85-2FA5-47DC-AD8B-2FF7D183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E6A0-3131-4EDF-8943-82FA7FA2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1F65-943C-4B3C-83D6-39909A7A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BD3A-2CD3-4166-805E-77D6EEAD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2F8F-D700-4312-B548-0FDCD901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542F-DFD5-4ED2-AC5F-D96A3526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1913-75A2-4F02-BC96-FF2579BF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5056-E947-41BC-815E-3266E1D6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A6A3-5D52-4297-98D7-8F17DDC5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DE01-32FF-49BA-8A0D-BB4F2F26A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00"/>
                </a:solidFill>
                <a:latin typeface="Arial"/>
              </a:rPr>
              <a:t>Stratified Analysi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25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5438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858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467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4572000"/>
            <a:ext cx="7467840" cy="1295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8080" y="1143000"/>
            <a:ext cx="7467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3809880"/>
            <a:ext cx="7467480" cy="1150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14400" y="770040"/>
            <a:ext cx="7467480" cy="3047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209680" y="5029200"/>
            <a:ext cx="42674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467840" cy="3810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38080" y="5029200"/>
            <a:ext cx="746784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705720" y="5402160"/>
            <a:ext cx="1600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586728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467480" cy="2895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90720" y="3200400"/>
            <a:ext cx="7467480" cy="914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0" y="3649680"/>
            <a:ext cx="1600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411480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90720" y="4191120"/>
            <a:ext cx="74674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18:56:14Z</dcterms:modified>
  <cp:revision>43</cp:revision>
  <dc:subject/>
  <dc:title>PowerPoint Presentation</dc:title>
</cp:coreProperties>
</file>